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0CB-33B2-47D7-AD42-3EDCDE3A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4BA-BA11-404C-A144-35A04502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827-1CD6-4D85-9A83-A44FB0B4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29E-EBE5-4432-92A2-F6CA620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E93-D1ED-4C90-811D-F084307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C6F-2218-4EE4-811B-75E988A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95B-4D19-4223-BBD0-B7DD8E4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BD1-D89A-4BF5-B0A0-E83434E9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C1AD-42BE-4CFA-A2EF-0B494380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AAE6-DAE6-45AB-BD5B-9A8853D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A57-4F68-4FE6-A003-6F14AF4C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11F-95B2-40BB-91BE-D24F1D51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213D-AEE0-4E18-A3C7-8E9C0C3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8CFF-CA0D-4A87-BD7A-B032E65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D25-6FB3-44DF-B8D5-FF2F9C3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BD6-7DFB-4FDF-9723-2BAA575A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8EBA-FD5A-4521-A87C-4EFE49E0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557-FD51-470B-A87B-297479FA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844-E106-4BCD-B675-EF82316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48B-88E8-4019-B5C8-B5BEF7A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AD3-EAAE-4F5C-BF62-9CF51FC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1BA-15C5-4966-B95F-C6EC536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A72-C5E0-4201-86AF-F33AA79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411-9A5E-4BC9-AC1D-1D38370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117-5B06-4B2C-AC34-6D3E09EF5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DEA-6B7E-4F2A-B4EB-E1740E305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Broadway"/>
              </a:rPr>
              <a:t>Mutations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Section 12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Senate"/>
              </a:rPr>
              <a:t>Albinism</a:t>
            </a:r>
            <a:r>
              <a:rPr b="0" lang="en-US" sz="7200" spc="-1" strike="noStrike">
                <a:solidFill>
                  <a:srgbClr val="e5ffff"/>
                </a:solidFill>
                <a:latin typeface="Senate"/>
              </a:rPr>
              <a:t>	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"/>
              </a:rPr>
              <a:t>Caused by a point mut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"/>
              </a:rPr>
              <a:t>Some examples…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76200"/>
            <a:ext cx="807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64767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3915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Senate"/>
              </a:rPr>
              <a:t>Webbed fee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1417680"/>
            <a:ext cx="55818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Image Preview"/>
          <p:cNvPicPr/>
          <p:nvPr/>
        </p:nvPicPr>
        <p:blipFill>
          <a:blip r:embed="rId2"/>
          <a:stretch/>
        </p:blipFill>
        <p:spPr>
          <a:xfrm>
            <a:off x="685800" y="457200"/>
            <a:ext cx="7696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Senate"/>
              </a:rPr>
              <a:t>Mutations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changes in DNA sequence that affect genetic inform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Two Typ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Gene mutations = 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change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enate"/>
              </a:rPr>
              <a:t>single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 g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Chromosomal mutations = 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changes whole chromo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5943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3248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Senate"/>
              </a:rPr>
              <a:t>Gene Mutat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Point mut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affec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nucleot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Occur at single point in DNA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G T A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G A T T C 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G T A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G A T T C 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Senate"/>
              </a:rPr>
              <a:t>Gene Mutat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Senate"/>
              </a:rPr>
              <a:t>Frameshift mutation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shifts in the “reading frame” of the genetic mess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G 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T C C G A G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ACG  TCC  GA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    T C C G A G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ACT  CCG  A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enate"/>
              </a:rPr>
              <a:t>Chromosomal Mutation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Changes in the number or structure of chromosom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Changes in locations in ge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Number of copies of ge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Senate"/>
              </a:rPr>
              <a:t>Four Types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Dele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loss of all or part of chromos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Duplic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segment of chromosome repe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Invers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part of chromosome becomes oriented in reverse dire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Transloc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parts of one chromosome breaks off and attaches to another chromos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images.google.com/imgres?imgurl=http://staff.tuhsd.k12.az.us/gfoster/standard/dmutate.gif&amp;imgrefurl=http://staff.tuhsd.k12.az.us/gfoster/standard/bmut.htm&amp;h=165&amp;w=150&amp;sz=5&amp;hl=en&amp;start=13&amp;tbnid=H-8tJA61SjB1bM:&amp;tbnh=99&amp;tbnw=90&amp;prev=/images%3Fq3Dchromosome%2Bmutations%2Bdeletion%2B%26svnum%3D10%26hl%3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enate"/>
              </a:rPr>
              <a:t>Mutation in the hair ge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81080" y="2001960"/>
            <a:ext cx="54104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920" y="507960"/>
            <a:ext cx="83055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29:02Z</dcterms:created>
  <dc:creator>NHS</dc:creator>
  <dc:description/>
  <dc:language>en-US</dc:language>
  <cp:lastModifiedBy>NHS</cp:lastModifiedBy>
  <dcterms:modified xsi:type="dcterms:W3CDTF">2007-02-06T13:33:20Z</dcterms:modified>
  <cp:revision>8</cp:revision>
  <dc:subject/>
  <dc:title>Mutations</dc:title>
</cp:coreProperties>
</file>